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AA7A-6372-4597-99B4-AB8383DD09C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D03B-7DC7-4970-97C9-E2F8B1FE1A7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7016-E672-4744-811C-E7970F1E57F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E2B0-614B-4B51-84F6-67145BE3951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50F8-BC97-4363-BAAE-59A38238948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FAA9-394E-406C-A43A-8596EBE18F5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077A-E79C-4F97-A454-8E9FF0B3002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85BE-4B5E-4489-AC3F-6A21A22452F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39D5-BD91-4765-8B27-7E2EE94F8E9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1DF2-AA7E-4F5F-8D07-0CBF74905F6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8D3F-D0CB-4BDF-AF25-63CD677B849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E4A2-75BF-454E-9A66-761B3C88CC7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79D3-D0C2-4A20-A1B4-9689C107F83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3B49-8D81-47B5-B70B-A364A440EEB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7972-4E69-431C-9EC5-3B32C198BFC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1C9E-760C-40DE-B189-F4AE6BFA0F9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0589-98DD-4D16-9A6B-736F982E93E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0B6E-523F-4666-8F2F-71A53D00A4A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9353-98A3-4625-9D2D-79626C9322C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6D51-BB65-48ED-92AF-8D6D3B0333A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44CC-544E-4C4A-8E7C-424D6AF2A66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8B3E-69FB-4F1B-AE1E-0B90C5836C5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8A1B-A0F0-4969-83AF-3AC95C67869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BAC-59D8-4C10-88F2-F27E59A6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6BF-0C47-443A-BD0F-D744929A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8D1-62C6-459A-8A38-A79B5FF1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1E9-D722-49E0-BA53-250D9370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8BB-0AE3-46E7-AB5F-551F5AE4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952-18B8-43DB-B76A-ACB608B8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9BF-0528-4728-B0F3-C57CA9F4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D20-3567-4210-9316-7135AE44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BCE-D5D9-42A4-8227-7344C884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712-0634-49A6-9640-2E7B2D26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B54-4DA7-4EA1-817B-5F9291F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917-8B3C-4FD5-9031-2C251760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0A86-3B99-4D54-B586-60B2ADC7FFE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tabl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kyter 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1 : 2009/07/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2 : 2009/08/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3 : 2009/08/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4: 2009/12/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etc $ iptables  -L -t mangle -v -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REROUTING (policy ACCEPT 26688 packets, 4100K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NPUT (policy ACCEPT 25042 packets, 4019K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60 12638 IP_FILTER  all  --  *      *     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OUTPUT (policy ACCEPT 56233 packets, 66M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OSTROUTING (policy ACCEPT 56233 packets, 66M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P_FILTER (1 referenc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0     0 RETURN     all  --  any    any     192.168.10.0/24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1429  129K RETURN     all  --  any    any     192.168.1.0/24 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591 75007 DROP       all  --  any    any     anywhere       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init of streaming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s chang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PORT_STREAM, PORT_SEARCH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e aware not to invoke DefaultRules.sh when PORT_HTTP and PORT_HTTPS is chang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DefaultRules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usr/sbin/DefaultRules.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DefaultRules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DefaultRules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字方塊 3"/>
          <p:cNvSpPr/>
          <p:nvPr/>
        </p:nvSpPr>
        <p:spPr>
          <a:xfrm>
            <a:off x="1071720" y="2119320"/>
            <a:ext cx="77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VER_TCP_PORTS=80,443,6001,6002,7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VER_UDP_PORTS=6005,6006,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內容版面配置區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4054680" cy="4535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drop port scan 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NMAP FIN/URG/PSH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FIN,URG,PSH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Xmas Tre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ALL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Another Xmas Tre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SYN,RST,ACK,FIN,URG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Null Scan(possibly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NONE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SYN/R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SYN,RST SYN,RST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SYN/FIN -- Scan(possibly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SYN,FIN SYN,FIN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i lo -j ACCEP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m state --state ESTABLISHED,RELATED -j ACCEP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Web server is running on port 80,443,6001,6002,7070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ORTS=`echo $SERVER_TCP_PORTS|sed "s/,/ /g"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port in $PORTS 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dport $port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$IPTABLES -A INPUT -p tcp --dport 20 -j RATE_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$IPTABLES -A INPUT -p tcp --dport 21 -j RATE_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ORTS=`echo $SERVER_UDP_PORTS|sed "s/,/ /g"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port in $PORTS 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udp --dport $port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Being specific about who we allow to use ssh from the local subne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CAL_SUBNET=`ip addr show eth0|grep "inet "|sed "s/  */ /g"|cut -d ' ' -f 3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m state --state NEW -s $LOCAL_SUBNET  -p tcp --dport 22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雲朵形圖說文字 5"/>
          <p:cNvSpPr/>
          <p:nvPr/>
        </p:nvSpPr>
        <p:spPr>
          <a:xfrm>
            <a:off x="7286760" y="3571920"/>
            <a:ext cx="1571400" cy="642960"/>
          </a:xfrm>
          <a:prstGeom prst="cloudCallout">
            <a:avLst>
              <a:gd name="adj1" fmla="val -66013"/>
              <a:gd name="adj2" fmla="val 337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Based on FTP_SERVER URL Comm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cript exec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usr/sbin $ date;DefaultRules.sh ;d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 Jan  1 00:14:46 UTC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 Jan  1 00:14:47 UTC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雲朵形圖說文字 3"/>
          <p:cNvSpPr/>
          <p:nvPr/>
        </p:nvSpPr>
        <p:spPr>
          <a:xfrm>
            <a:off x="3071880" y="2071800"/>
            <a:ext cx="2286000" cy="1071360"/>
          </a:xfrm>
          <a:prstGeom prst="cloudCallout">
            <a:avLst>
              <a:gd name="adj1" fmla="val -55726"/>
              <a:gd name="adj2" fmla="val -328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ly 1 second is okey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ource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oid DefaultRulesInit (voi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LE *fd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d = fopen ("/etc/DefaultRules.conf", "w+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f (!f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SERVER_TCP_PORTS=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g_media.http_port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g_media.https_port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CONTROL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STREAM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\n", nvram_get_i("PORT_RTSP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SERVER_UDP_PORTS=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SEARCH1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\n", nvram_get_i("PORT_SEARCH2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close (fd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y_system ("/usr/sbin/DefaultRules.sh", 0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ery PORT related URL changed will trigger this script, except PORT_HTTP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{"PORT_SEARCH_1", {"PORT_SEARCH1", ""}, 0x07, 0x04, 0x00, 'R', 1, 65535, NULL, url_common, NULL, 0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       EXECUTE_SYSTEM_SEARCH_PORT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        EXECUTE_SYSTEM_SEARCH_PORT</a:t>
            </a: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ECUTE_SYSTEM_DEFAULT_RULES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(boot u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/usr/sbin $ iptables  -L -v -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INPUT (policy DROP 82 packets, 15414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2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6/0x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3/0x0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lo     *       0.0.0.0/0            0.0.0.0/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*      *       0.0.0.0/0            0.0.0.0/0           state RELATED,ESTABLISH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4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0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0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70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00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0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172.16.3.0/24        0.0.0.0/0           state NEW tcp dpt: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udp  --  *      *       0.0.0.0/0            0.0.0.0/0           udp dpt:10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OUTPUT (policy ACCEPT 43733 packets, 52M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RATE_LIMIT (9 referenc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tcp  --  *      *       0.0.0.0/0            0.0.0.0/0           limit: avg 35/sec burst 3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833480" y="2262240"/>
            <a:ext cx="5477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init of streaming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IpFilter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_FILTER_RULE cha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IpFilter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(boot u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/usr/sbin $ iptables  -L -v -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INPUT (policy DROP 52 packets, 8565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2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6/0x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3/0x0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lo     *       0.0.0.0/0            0.0.0.0/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516  491K ACCEPT     all  --  *      *       0.0.0.0/0            0.0.0.0/0           state RELATED,ESTABLISH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45  6960 RATE_LIMIT  tcp  --  *      *       0.0.0.0/0            0.0.0.0/0           tcp dpt: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27  6096 RATE_LIMIT  tcp  --  *      *       0.0.0.0/0            0.0.0.0/0           tcp dpt:4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4   192 RATE_LIMIT  tcp  --  *      *       0.0.0.0/0            0.0.0.0/0           tcp dpt:600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   144 RATE_LIMIT  tcp  --  *      *       0.0.0.0/0            0.0.0.0/0           tcp dpt:600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    48 RATE_LIMIT  tcp  --  *      *       0.0.0.0/0            0.0.0.0/0           tcp dpt:70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6  1516 RATE_LIMIT  udp  --  *      *       0.0.0.0/0            0.0.0.0/0           udp dpt:600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5  1020 RATE_LIMIT  udp  --  *      *       0.0.0.0/0            0.0.0.0/0           udp dpt:60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172.16.3.0/24        0.0.0.0/0           state NEW tcp dpt: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udp  --  *      *       0.0.0.0/0            0.0.0.0/0           udp dpt:10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OUTPUT (policy ACCEPT 17458 packets, 20M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RATE_LIMIT (9 referenc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76 13248 ACCEPT     tcp  --  *      *       0.0.0.0/0            0.0.0.0/0           limit: avg 35/sec burst 3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if any conflict with existed iptables 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雲朵形圖說文字 3"/>
          <p:cNvSpPr/>
          <p:nvPr/>
        </p:nvSpPr>
        <p:spPr>
          <a:xfrm>
            <a:off x="2214720" y="2500200"/>
            <a:ext cx="2857320" cy="1643040"/>
          </a:xfrm>
          <a:prstGeom prst="cloudCallout">
            <a:avLst>
              <a:gd name="adj1" fmla="val -56236"/>
              <a:gd name="adj2" fmla="val -446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PL had TOS rules on OUTPUT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check the following pa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&lt;http://172.16.5.24/svn/repos/CommonLibs/Firewall/INSTALL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usr/sbin/IpFilter.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IpFilter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IpFilter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字方塊 3"/>
          <p:cNvSpPr/>
          <p:nvPr/>
        </p:nvSpPr>
        <p:spPr>
          <a:xfrm>
            <a:off x="1071720" y="2119320"/>
            <a:ext cx="5072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P_FILTER_STATE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P_FILTER_TYPE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P_FILTER_RULE=“1,0,172.16.3.72,32,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■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2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3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4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5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6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7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8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9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0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1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2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3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4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5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6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雲朵形圖說文字 4"/>
          <p:cNvSpPr/>
          <p:nvPr/>
        </p:nvSpPr>
        <p:spPr>
          <a:xfrm>
            <a:off x="5357880" y="4071960"/>
            <a:ext cx="2286000" cy="857160"/>
          </a:xfrm>
          <a:prstGeom prst="cloudCallout">
            <a:avLst>
              <a:gd name="adj1" fmla="val -45087"/>
              <a:gd name="adj2" fmla="val -645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　代表空格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!/bin/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/etc/IpFilter.con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PTABLES="/sbin/iptables -t mangle 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Checking if there is a existed IP_FILTER ch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L IP_FILTER &gt; /dev/null 2&gt;&amp;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? -eq 1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N IP_FIL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NPUT -j IP_FIL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STATE = "0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xit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for RULE in $IP_FILTER_RULE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AT=`echo -n $RULE|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cut -d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',' -f 2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P=`echo -n $RULE|cut -d ',' -f 3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ASK=`echo -n $RULE|cut -d ',' -f 4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STAT -eq 1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1 means matched need to be pa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TYPE = "1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s $IP/$MASK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-j RETUR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s $IP/$MASK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-j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The not matched rest's need to be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TYPE = "1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j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if TYPE:0 Deny means those packets matched is need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to be DROP, otherwise will return to the caller ch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(ACCEPT and continueing on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雲朵形圖說文字 5"/>
          <p:cNvSpPr/>
          <p:nvPr/>
        </p:nvSpPr>
        <p:spPr>
          <a:xfrm>
            <a:off x="5572080" y="1143000"/>
            <a:ext cx="2071800" cy="357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eparated wuth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雲朵形圖說文字 6"/>
          <p:cNvSpPr/>
          <p:nvPr/>
        </p:nvSpPr>
        <p:spPr>
          <a:xfrm>
            <a:off x="7786800" y="1785960"/>
            <a:ext cx="1357200" cy="357120"/>
          </a:xfrm>
          <a:prstGeom prst="cloudCallout">
            <a:avLst>
              <a:gd name="adj1" fmla="val -71000"/>
              <a:gd name="adj2" fmla="val 243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.E.T. all supports ‘cut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cript exec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usr/sbin $ date;IpFilter.sh ;d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 $ date;IpFilter.sh ;d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n Jan  1 00:06:51 UTC 200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n Jan  1 00:06:53 UTC 200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? (still needs 2 secon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[ 1 -lt 10 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val NAME=$IP_FILTER_RULE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NAME=1,1,172.16.3.72,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let i=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NAME=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INDEX=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STAT=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IP=172.16.3.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MASK=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[ 1 -eq 1 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ource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oid IpFilterInit (vo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LE *fd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t i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d = fopen ("/etc/IpFilter.conf", "w+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f (!f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STATE=%s\n", nvram_safe_get("IP_FILTER_STATE"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TYPE=%s\n", nvram_safe_get("IP_FILTER_TYPE"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RULE=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\"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 (i=1; i&lt;=16; i++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%s</a:t>
            </a:r>
            <a:r>
              <a:rPr b="0" lang="en-US" sz="13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, nvram_safe_getf ("IP_FILTER_RULE%02d", i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"\"\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close (fd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y_system ("/usr/sbin/IpFilter.sh", 0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雲朵形圖說文字 3"/>
          <p:cNvSpPr/>
          <p:nvPr/>
        </p:nvSpPr>
        <p:spPr>
          <a:xfrm>
            <a:off x="3643200" y="3857760"/>
            <a:ext cx="3929040" cy="285480"/>
          </a:xfrm>
          <a:prstGeom prst="cloudCallout">
            <a:avLst>
              <a:gd name="adj1" fmla="val -66282"/>
              <a:gd name="adj2" fmla="val -396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ell script need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etc/config/update.con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STATE='1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TYPE='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,1,172.16.3.82,32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2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3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4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5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6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7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8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9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0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1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2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3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4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5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6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etc $ cat /etc/IpFilter.con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STATE=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TYPE=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"1,1,192.168.10.1,24, 2,1,192.168.1.1,24, 3,0,0.0.0.0,0, 4,0,0.0.0.0,0, 5,0,0.0.0.0,0, 6,0,0.0.0.0,0, 7,0,0.0.0.0,0, 8,0,0.0.0.0,0, 9,0,0.0.0.0,0, 10,0,0.0.0.0,0, 11,0,0.0.0.0,0, 12,0,0.0.0.0,0, 13,0,0.0.0.0,0, 14,0,0.0.0.0,0, 15,0,0.0.0.0,0, 16,0,0.0.0.0,0, 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etc $ iptables  -L -t mang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REROUTING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NPUT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P_FILTER  all  --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FORWARD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OUTPUT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OSTROUTING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P_FILTER (1 referenc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     all  --  192.168.10.0/24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     all  --  192.168.1.0/24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ROP       all  --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0:55:34Z</dcterms:created>
  <dc:creator>ACTi All Users</dc:creator>
  <dc:description/>
  <dc:language>en-US</dc:language>
  <cp:lastModifiedBy>ACTi All Users</cp:lastModifiedBy>
  <dcterms:modified xsi:type="dcterms:W3CDTF">2010-01-27T09:58:25Z</dcterms:modified>
  <cp:revision>52</cp:revision>
  <dc:subject/>
  <dc:title>Iptables </dc:title>
</cp:coreProperties>
</file>